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2.wmf" ContentType="image/x-wmf"/>
  <Override PartName="/ppt/media/image49.png" ContentType="image/png"/>
  <Override PartName="/ppt/media/image48.png" ContentType="image/png"/>
  <Override PartName="/ppt/media/image70.wmf" ContentType="image/x-wmf"/>
  <Override PartName="/ppt/media/image47.png" ContentType="image/png"/>
  <Override PartName="/ppt/media/image46.wmf" ContentType="image/x-wmf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wmf" ContentType="image/x-wmf"/>
  <Override PartName="/ppt/media/image39.png" ContentType="image/png"/>
  <Override PartName="/ppt/media/image32.wmf" ContentType="image/x-wmf"/>
  <Override PartName="/ppt/media/image75.png" ContentType="image/png"/>
  <Override PartName="/ppt/media/image31.wmf" ContentType="image/x-wmf"/>
  <Override PartName="/ppt/media/image30.wmf" ContentType="image/x-wmf"/>
  <Override PartName="/ppt/media/image9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29.wmf" ContentType="image/x-wmf"/>
  <Override PartName="/ppt/media/image1.png" ContentType="image/png"/>
  <Override PartName="/ppt/media/image24.wmf" ContentType="image/x-wmf"/>
  <Override PartName="/ppt/media/image58.wmf" ContentType="image/x-wmf"/>
  <Override PartName="/ppt/media/image21.wmf" ContentType="image/x-wmf"/>
  <Override PartName="/ppt/media/image64.png" ContentType="image/png"/>
  <Override PartName="/ppt/media/image25.wmf" ContentType="image/x-wmf"/>
  <Override PartName="/ppt/media/image57.wmf" ContentType="image/x-wmf"/>
  <Override PartName="/ppt/media/image63.png" ContentType="image/png"/>
  <Override PartName="/ppt/media/image20.wmf" ContentType="image/x-wmf"/>
  <Override PartName="/ppt/media/image22.wmf" ContentType="image/x-wmf"/>
  <Override PartName="/ppt/media/image59.wmf" ContentType="image/x-wmf"/>
  <Override PartName="/ppt/media/image61.png" ContentType="image/png"/>
  <Override PartName="/ppt/media/image14.wmf" ContentType="image/x-wmf"/>
  <Override PartName="/ppt/media/image27.wmf" ContentType="image/x-wmf"/>
  <Override PartName="/ppt/media/image81.png" ContentType="image/png"/>
  <Override PartName="/ppt/media/image78.wmf" ContentType="image/x-wmf"/>
  <Override PartName="/ppt/media/image74.wmf" ContentType="image/x-wmf"/>
  <Override PartName="/ppt/media/image73.wmf" ContentType="image/x-wmf"/>
  <Override PartName="/ppt/media/image72.png" ContentType="image/png"/>
  <Override PartName="/ppt/media/image26.wmf" ContentType="image/x-wmf"/>
  <Override PartName="/ppt/media/image69.png" ContentType="image/png"/>
  <Override PartName="/ppt/media/image2.png" ContentType="image/png"/>
  <Override PartName="/ppt/media/image71.png" ContentType="image/png"/>
  <Override PartName="/ppt/media/image68.wmf" ContentType="image/x-wmf"/>
  <Override PartName="/ppt/media/image67.wmf" ContentType="image/x-wmf"/>
  <Override PartName="/ppt/media/image65.wmf" ContentType="image/x-wmf"/>
  <Override PartName="/ppt/media/image66.png" ContentType="image/png"/>
  <Override PartName="/ppt/media/image23.wmf" ContentType="image/x-wmf"/>
  <Override PartName="/ppt/media/image60.wmf" ContentType="image/x-wmf"/>
  <Override PartName="/ppt/media/image62.wmf" ContentType="image/x-wmf"/>
  <Override PartName="/ppt/media/image8.wmf" ContentType="image/x-wmf"/>
  <Override PartName="/ppt/media/image3.wmf" ContentType="image/x-wmf"/>
  <Override PartName="/ppt/media/image80.wmf" ContentType="image/x-wmf"/>
  <Override PartName="/ppt/media/image15.wmf" ContentType="image/x-wmf"/>
  <Override PartName="/ppt/media/image33.wmf" ContentType="image/x-wmf"/>
  <Override PartName="/ppt/media/image76.png" ContentType="image/png"/>
  <Override PartName="/ppt/media/image37.wmf" ContentType="image/x-wmf"/>
  <Override PartName="/ppt/media/image16.wmf" ContentType="image/x-wmf"/>
  <Override PartName="/ppt/media/image4.wmf" ContentType="image/x-wmf"/>
  <Override PartName="/ppt/media/image77.png" ContentType="image/png"/>
  <Override PartName="/ppt/media/image34.wmf" ContentType="image/x-wmf"/>
  <Override PartName="/ppt/media/image28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53.png" ContentType="image/png"/>
  <Override PartName="/ppt/media/image10.wmf" ContentType="image/x-wmf"/>
  <Override PartName="/ppt/media/image18.wmf" ContentType="image/x-wmf"/>
  <Override PartName="/ppt/media/image6.wmf" ContentType="image/x-wmf"/>
  <Override PartName="/ppt/media/image79.png" ContentType="image/png"/>
  <Override PartName="/ppt/media/image36.wmf" ContentType="image/x-wmf"/>
  <Override PartName="/ppt/media/image11.wmf" ContentType="image/x-wmf"/>
  <Override PartName="/ppt/media/image50.png" ContentType="image/png"/>
  <Override PartName="/ppt/media/image7.wmf" ContentType="image/x-wmf"/>
  <Override PartName="/ppt/media/image19.wmf" ContentType="image/x-wmf"/>
  <Override PartName="/ppt/media/image12.wmf" ContentType="image/x-wmf"/>
  <Override PartName="/ppt/media/image5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B15-225B-431A-B2AF-574EFD5A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6A1-EA9A-4EBC-965F-16B79E71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0D6-E58B-4EEF-BCA9-2E72E3AF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BC0-C823-463F-A51E-10867092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472-1B26-4059-A295-4D375EFD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130D-9766-4989-8C17-4803910C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39CE-1042-4A5E-9A23-A1C55DC5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561-3AF3-4FD5-9CAC-17349EE5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72F-FE8E-4A7D-9BAD-22574D3E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EEE-CA17-46AA-8CC1-E96287D3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B4F-A9E3-4742-B2D6-BA6853AA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F076-B4FB-4A72-83F7-5FE3E45D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80DB-1CBF-4A7B-B108-6F656A5E57B2}" type="slidenum">
              <a:rPr b="0" lang="en-US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wmf"/><Relationship Id="rId6" Type="http://schemas.openxmlformats.org/officeDocument/2006/relationships/image" Target="../media/image66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wmf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81000" y="1197000"/>
            <a:ext cx="8974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893080" cy="122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0" y="2509920"/>
            <a:ext cx="9161640" cy="1239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611280" y="3662280"/>
            <a:ext cx="1584360" cy="717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281160" y="4379760"/>
            <a:ext cx="86007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8440" y="0"/>
            <a:ext cx="9115560" cy="785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8440" y="1268280"/>
            <a:ext cx="9060120" cy="1297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184320" y="2664000"/>
            <a:ext cx="3419280" cy="44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4"/>
          <a:stretch/>
        </p:blipFill>
        <p:spPr>
          <a:xfrm>
            <a:off x="4140360" y="2133720"/>
            <a:ext cx="4537080" cy="3216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5"/>
          <a:stretch/>
        </p:blipFill>
        <p:spPr>
          <a:xfrm>
            <a:off x="123840" y="5661000"/>
            <a:ext cx="85629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8967600" cy="431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324000" y="5661000"/>
            <a:ext cx="87246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7640" y="25560"/>
            <a:ext cx="9161640" cy="1012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138240" y="1989000"/>
            <a:ext cx="885816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7128000" cy="469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1042920" y="5445000"/>
            <a:ext cx="66024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9360" y="0"/>
            <a:ext cx="9153360" cy="907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872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424720" cy="720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7812360" cy="3745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3"/>
          <a:stretch/>
        </p:blipFill>
        <p:spPr>
          <a:xfrm>
            <a:off x="826920" y="5013360"/>
            <a:ext cx="482472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4"/>
          <a:stretch/>
        </p:blipFill>
        <p:spPr>
          <a:xfrm>
            <a:off x="826920" y="5407200"/>
            <a:ext cx="770580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-14400" y="6480"/>
            <a:ext cx="9158400" cy="6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425520" y="1341360"/>
            <a:ext cx="81676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6480" y="6480"/>
            <a:ext cx="9156960" cy="645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8835840" cy="259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-108000" y="3960720"/>
            <a:ext cx="9258480" cy="83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4"/>
          <a:stretch/>
        </p:blipFill>
        <p:spPr>
          <a:xfrm>
            <a:off x="1308240" y="5229360"/>
            <a:ext cx="65433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9036000" cy="108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0" y="2060640"/>
            <a:ext cx="9252000" cy="1004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90360" y="3525840"/>
            <a:ext cx="9072720" cy="1485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2173320" y="5300640"/>
            <a:ext cx="490536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68120" y="1628640"/>
            <a:ext cx="8798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7920" y="20520"/>
            <a:ext cx="9156600" cy="646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-1440" y="4653000"/>
            <a:ext cx="9145440" cy="901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1042920" y="5722920"/>
            <a:ext cx="2951280" cy="592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4"/>
          <a:stretch/>
        </p:blipFill>
        <p:spPr>
          <a:xfrm>
            <a:off x="5651640" y="5732640"/>
            <a:ext cx="1992240" cy="59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5"/>
          <a:stretch/>
        </p:blipFill>
        <p:spPr>
          <a:xfrm>
            <a:off x="179280" y="2536920"/>
            <a:ext cx="8229600" cy="2116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6"/>
          <a:stretch/>
        </p:blipFill>
        <p:spPr>
          <a:xfrm>
            <a:off x="322200" y="1030320"/>
            <a:ext cx="852804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29600" cy="2184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-11160" y="2565360"/>
            <a:ext cx="900108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29600" cy="3409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611280" y="4508640"/>
            <a:ext cx="7802640" cy="110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"/>
          <a:stretch/>
        </p:blipFill>
        <p:spPr>
          <a:xfrm>
            <a:off x="3568680" y="5805360"/>
            <a:ext cx="18860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-58680" y="6480"/>
            <a:ext cx="9232920" cy="542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8229600" cy="2151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3"/>
          <a:stretch/>
        </p:blipFill>
        <p:spPr>
          <a:xfrm>
            <a:off x="42840" y="3141720"/>
            <a:ext cx="9058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-46080" y="0"/>
            <a:ext cx="9236160" cy="542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8229600" cy="1995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157320" y="2924280"/>
            <a:ext cx="8829360" cy="2143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34920" y="5229360"/>
            <a:ext cx="9074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-49320" y="0"/>
            <a:ext cx="9242640" cy="542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203040" y="1628640"/>
            <a:ext cx="8737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76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6547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lf-dual strings in 6d SCF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onclusions I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3d N=2 gauge theorie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actorization of the 3d superconforma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Application to N=4 Seiberg-like duality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onclusions II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7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2340000" y="4292640"/>
            <a:ext cx="4680000" cy="264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324000" y="747720"/>
            <a:ext cx="80690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785080" cy="201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4920" y="2997360"/>
            <a:ext cx="5472000" cy="357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6227640" y="2716200"/>
            <a:ext cx="1629000" cy="14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4"/>
          <a:stretch/>
        </p:blipFill>
        <p:spPr>
          <a:xfrm>
            <a:off x="4788000" y="4357800"/>
            <a:ext cx="4356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229600" cy="1263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411280" y="2492280"/>
            <a:ext cx="505800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299880" y="3162240"/>
            <a:ext cx="3480120" cy="477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4"/>
          <a:stretch/>
        </p:blipFill>
        <p:spPr>
          <a:xfrm>
            <a:off x="612720" y="3639960"/>
            <a:ext cx="8207280" cy="1965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5"/>
          <a:stretch/>
        </p:blipFill>
        <p:spPr>
          <a:xfrm>
            <a:off x="299880" y="5877000"/>
            <a:ext cx="759312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50720" y="404640"/>
            <a:ext cx="8693280" cy="2737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227160" y="3165480"/>
            <a:ext cx="9353520" cy="120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250920" y="4276800"/>
            <a:ext cx="91724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22960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754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1871640" y="1773360"/>
            <a:ext cx="5400720" cy="1238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4"/>
          <a:stretch/>
        </p:blipFill>
        <p:spPr>
          <a:xfrm>
            <a:off x="1440" y="3213000"/>
            <a:ext cx="9248760" cy="1933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5"/>
          <a:stretch/>
        </p:blipFill>
        <p:spPr>
          <a:xfrm>
            <a:off x="104760" y="5300640"/>
            <a:ext cx="35337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2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108000" y="1197000"/>
            <a:ext cx="9036000" cy="43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1631880" y="1828800"/>
            <a:ext cx="5934240" cy="106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474840" y="2895480"/>
            <a:ext cx="8194320" cy="100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5"/>
          <a:stretch/>
        </p:blipFill>
        <p:spPr>
          <a:xfrm>
            <a:off x="0" y="3948120"/>
            <a:ext cx="88930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8:45:27Z</dcterms:created>
  <dc:creator>a</dc:creator>
  <dc:description/>
  <dc:language>en-US</dc:language>
  <cp:lastModifiedBy>ser</cp:lastModifiedBy>
  <dcterms:modified xsi:type="dcterms:W3CDTF">2016-05-28T04:04:39Z</dcterms:modified>
  <cp:revision>327</cp:revision>
  <dc:subject/>
  <dc:title>입자이론물리 연구실 소개</dc:title>
</cp:coreProperties>
</file>